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1412-341A-428A-A8DB-B85991BF7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s def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DA54-790C-422E-A6EE-23D39449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086E-ABEB-4C3C-BF56-292B0AC1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DF9B-A049-4036-8C42-D681394C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A45C-BCEE-4403-95C3-29DF12AD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3172-63AF-4AEF-9BA2-6BABCE6C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15BE-96B7-4AA1-85FE-905F3D1B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1C68-6539-4032-8DB9-865948F2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8F23-A2D6-4469-B4F1-816B1F84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FFB9-A360-4987-B34A-D4D7C181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04B8-1E2A-46A3-9AF7-EEC1FE3D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7411-52AC-47B8-9D56-E8DCCACA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BC7D-8EA9-43DB-95D1-DAFE9367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8B24-A224-4CBC-BDFB-FAC8A794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75B5-8B68-4A73-9C23-DE6F2A0E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727E-4D44-465E-A987-F489AB04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6AF8-2C93-4008-84AD-2DB101F1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7FEC-B49B-4A7E-B109-3D44A43C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6D13-4A60-471F-B460-E1338974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7503-84D3-4051-A708-1AF5E425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7AB0-5F24-4ACA-8BFE-C9519516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5BCB-CC79-465B-BCAE-8AD98784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F2A0-8FA5-4127-AAA9-812124D7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EB23-C56E-4A71-B153-F2761C18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EED2-0971-4839-B4E9-C6CCE0ED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CD5A-E43B-4049-9B17-E8BFEE27C7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F832-AF58-442B-9085-6C7662C934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ideo.search.yahoo.com/video/play?ei=utf-8&amp;fr=sfp&amp;fr2=sg-gac-sy&amp;p=business+ethics+in+the+workplace&amp;vid=0001389336155&amp;dt=1240332013&amp;l=0&amp;turl=http%3A%2F%2Fyts.video.search.yahoo.com%2Fimage%2F1734CC411&amp;rurl=http%3A%2F%2Fwww.iquestions.com%2Fvideo%2Fview%2F440&amp;tit=How+do++you++handle++situations++where++you+see++ethics++violated%3F&amp;sigr=1184cqqhp&amp;newfp=1" TargetMode="External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be.org.uk/codesofethics/examples.html" TargetMode="External"/><Relationship Id="rId2" Type="http://schemas.openxmlformats.org/officeDocument/2006/relationships/hyperlink" Target="http://www.ehow.com/how_5982751_develop-personal-code-ethics.html" TargetMode="External"/><Relationship Id="rId3" Type="http://schemas.openxmlformats.org/officeDocument/2006/relationships/image" Target="../media/image6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loomberg.com/apps/news?pid=20601103&amp;sid=aPDMGOxP0uJQ" TargetMode="External"/><Relationship Id="rId2" Type="http://schemas.openxmlformats.org/officeDocument/2006/relationships/hyperlink" Target="http://www.bloomberg.com/apps/news?pid=20601103&amp;sid=aPDMGOxP0uJQ" TargetMode="External"/><Relationship Id="rId3" Type="http://schemas.openxmlformats.org/officeDocument/2006/relationships/hyperlink" Target="http://www.bloomberg.com/apps/news?pid=20601103&amp;sid=aPDMGOxP0uJQ" TargetMode="External"/><Relationship Id="rId4" Type="http://schemas.openxmlformats.org/officeDocument/2006/relationships/image" Target="../media/image7.jpeg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ybercitizenship.org/crime/crime.html" TargetMode="External"/><Relationship Id="rId2" Type="http://schemas.openxmlformats.org/officeDocument/2006/relationships/hyperlink" Target="http://articles.marco.org/218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thicsworld.org/" TargetMode="External"/><Relationship Id="rId2" Type="http://schemas.openxmlformats.org/officeDocument/2006/relationships/hyperlink" Target="http://www.bloomberg.com/apps/news?pid=20601103&amp;sid=aPDMGOxP0uJQ" TargetMode="External"/><Relationship Id="rId3" Type="http://schemas.openxmlformats.org/officeDocument/2006/relationships/hyperlink" Target="http://www.iquestions.com/" TargetMode="External"/><Relationship Id="rId4" Type="http://schemas.openxmlformats.org/officeDocument/2006/relationships/hyperlink" Target="http://www.ibe.org.uk/codesofethics/examples.html%20Accessed%205/23/10" TargetMode="External"/><Relationship Id="rId5" Type="http://schemas.openxmlformats.org/officeDocument/2006/relationships/hyperlink" Target="http://www.ehow.com/members/ds_f1b1af4b-1219-4af7-a4cc-ed74ffd16d12.html" TargetMode="External"/><Relationship Id="rId6" Type="http://schemas.openxmlformats.org/officeDocument/2006/relationships/hyperlink" Target="http://www.ehow.com/how_5982751_develop-personal-code-ethics.html%20Accessed%205/23/10" TargetMode="External"/><Relationship Id="rId7" Type="http://schemas.openxmlformats.org/officeDocument/2006/relationships/hyperlink" Target="http://www.cybercitizenship.org/" TargetMode="External"/><Relationship Id="rId8" Type="http://schemas.openxmlformats.org/officeDocument/2006/relationships/hyperlink" Target="http://www.cybercitizenship.org/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th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ethical issues influence business decis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057560" y="2909880"/>
            <a:ext cx="10288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grity is doing the right thing, even if nobody is watching.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-Jim Stov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609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th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moral principles by which people conduct themselves, personally, socially, or profession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71880" y="2311560"/>
            <a:ext cx="38149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thical Issu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Ethical Dilem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place Eth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de of Eth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ncial Ethic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yber Ethic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5943600" y="17524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22096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267080" y="26668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4267080" y="3200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4038480" y="37339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usiness Ethical Dilemm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ke and Reebok, outsource the manufacturing of their shoes to other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roduction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righ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responsibi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obligations do Nike and Reebok have in regards to these human rights and corporate responsibili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76960" y="2209680"/>
            <a:ext cx="2662200" cy="228924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0773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47712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53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orkplace eth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hical Dilem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place eth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ow do you handle situations when you see ethics violat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03880" y="1752480"/>
            <a:ext cx="2698560" cy="241308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7772400" y="556272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12525" y="3837"/>
                </a:moveTo>
                <a:lnTo>
                  <a:pt x="15101" y="6448"/>
                </a:lnTo>
                <a:lnTo>
                  <a:pt x="15101" y="4707"/>
                </a:lnTo>
                <a:lnTo>
                  <a:pt x="16877" y="4707"/>
                </a:lnTo>
                <a:lnTo>
                  <a:pt x="16877" y="8224"/>
                </a:lnTo>
                <a:lnTo>
                  <a:pt x="19488" y="10800"/>
                </a:lnTo>
                <a:lnTo>
                  <a:pt x="17834" y="10800"/>
                </a:lnTo>
                <a:lnTo>
                  <a:pt x="17834" y="17989"/>
                </a:lnTo>
                <a:lnTo>
                  <a:pt x="7216" y="17989"/>
                </a:lnTo>
                <a:lnTo>
                  <a:pt x="7216" y="10800"/>
                </a:lnTo>
                <a:lnTo>
                  <a:pt x="5562" y="10800"/>
                </a:lnTo>
                <a:close/>
              </a:path>
              <a:path fill="darkenLess" w="25050" h="21600">
                <a:moveTo>
                  <a:pt x="15101" y="6448"/>
                </a:moveTo>
                <a:lnTo>
                  <a:pt x="15101" y="4707"/>
                </a:lnTo>
                <a:lnTo>
                  <a:pt x="16877" y="4707"/>
                </a:lnTo>
                <a:lnTo>
                  <a:pt x="16877" y="8224"/>
                </a:lnTo>
                <a:close/>
              </a:path>
              <a:path fill="darkenLess" w="25050" h="21600">
                <a:moveTo>
                  <a:pt x="11602" y="14299"/>
                </a:moveTo>
                <a:lnTo>
                  <a:pt x="13448" y="14299"/>
                </a:lnTo>
                <a:lnTo>
                  <a:pt x="13448" y="17989"/>
                </a:lnTo>
                <a:lnTo>
                  <a:pt x="17834" y="17989"/>
                </a:lnTo>
                <a:lnTo>
                  <a:pt x="17834" y="10800"/>
                </a:lnTo>
                <a:lnTo>
                  <a:pt x="7216" y="10800"/>
                </a:lnTo>
                <a:lnTo>
                  <a:pt x="7216" y="17989"/>
                </a:lnTo>
                <a:lnTo>
                  <a:pt x="11602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ode of Ethic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e Code of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Institute of Business Eth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Code of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ow to Develop a Personal Code of Ethic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664240" y="1905120"/>
            <a:ext cx="2590920" cy="259380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rId4" action="ppaction://hlinksldjump"/>
          </p:cNvPr>
          <p:cNvSpPr/>
          <p:nvPr/>
        </p:nvSpPr>
        <p:spPr>
          <a:xfrm>
            <a:off x="7696080" y="54864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12525" y="3837"/>
                </a:moveTo>
                <a:lnTo>
                  <a:pt x="15101" y="6448"/>
                </a:lnTo>
                <a:lnTo>
                  <a:pt x="15101" y="4707"/>
                </a:lnTo>
                <a:lnTo>
                  <a:pt x="16877" y="4707"/>
                </a:lnTo>
                <a:lnTo>
                  <a:pt x="16877" y="8224"/>
                </a:lnTo>
                <a:lnTo>
                  <a:pt x="19488" y="10800"/>
                </a:lnTo>
                <a:lnTo>
                  <a:pt x="17834" y="10800"/>
                </a:lnTo>
                <a:lnTo>
                  <a:pt x="17834" y="17989"/>
                </a:lnTo>
                <a:lnTo>
                  <a:pt x="7216" y="17989"/>
                </a:lnTo>
                <a:lnTo>
                  <a:pt x="7216" y="10800"/>
                </a:lnTo>
                <a:lnTo>
                  <a:pt x="5562" y="10800"/>
                </a:lnTo>
                <a:close/>
              </a:path>
              <a:path fill="darkenLess" w="25050" h="21600">
                <a:moveTo>
                  <a:pt x="15101" y="6448"/>
                </a:moveTo>
                <a:lnTo>
                  <a:pt x="15101" y="4707"/>
                </a:lnTo>
                <a:lnTo>
                  <a:pt x="16877" y="4707"/>
                </a:lnTo>
                <a:lnTo>
                  <a:pt x="16877" y="8224"/>
                </a:lnTo>
                <a:close/>
              </a:path>
              <a:path fill="darkenLess" w="25050" h="21600">
                <a:moveTo>
                  <a:pt x="11602" y="14299"/>
                </a:moveTo>
                <a:lnTo>
                  <a:pt x="13448" y="14299"/>
                </a:lnTo>
                <a:lnTo>
                  <a:pt x="13448" y="17989"/>
                </a:lnTo>
                <a:lnTo>
                  <a:pt x="17834" y="17989"/>
                </a:lnTo>
                <a:lnTo>
                  <a:pt x="17834" y="10800"/>
                </a:lnTo>
                <a:lnTo>
                  <a:pt x="7216" y="10800"/>
                </a:lnTo>
                <a:lnTo>
                  <a:pt x="7216" y="17989"/>
                </a:lnTo>
                <a:lnTo>
                  <a:pt x="11602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600200"/>
            <a:ext cx="38149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e Code of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stitute of Business Ethics (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GlaxoSmithK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Code of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Develop a Personal Code of Ethic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inancial Eth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nie Mad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Bernard </a:t>
            </a: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Madoff</a:t>
            </a: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 Gets 150 Years in Jail for Epic Fraud (Update7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876920" y="2362320"/>
            <a:ext cx="3814560" cy="303192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rId5" action="ppaction://hlinksldjump"/>
          </p:cNvPr>
          <p:cNvSpPr/>
          <p:nvPr/>
        </p:nvSpPr>
        <p:spPr>
          <a:xfrm>
            <a:off x="7696080" y="581508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12525" y="3837"/>
                </a:moveTo>
                <a:lnTo>
                  <a:pt x="15101" y="6448"/>
                </a:lnTo>
                <a:lnTo>
                  <a:pt x="15101" y="4707"/>
                </a:lnTo>
                <a:lnTo>
                  <a:pt x="16877" y="4707"/>
                </a:lnTo>
                <a:lnTo>
                  <a:pt x="16877" y="8224"/>
                </a:lnTo>
                <a:lnTo>
                  <a:pt x="19488" y="10800"/>
                </a:lnTo>
                <a:lnTo>
                  <a:pt x="17834" y="10800"/>
                </a:lnTo>
                <a:lnTo>
                  <a:pt x="17834" y="17989"/>
                </a:lnTo>
                <a:lnTo>
                  <a:pt x="7216" y="17989"/>
                </a:lnTo>
                <a:lnTo>
                  <a:pt x="7216" y="10800"/>
                </a:lnTo>
                <a:lnTo>
                  <a:pt x="5562" y="10800"/>
                </a:lnTo>
                <a:close/>
              </a:path>
              <a:path fill="darkenLess" w="25050" h="21600">
                <a:moveTo>
                  <a:pt x="15101" y="6448"/>
                </a:moveTo>
                <a:lnTo>
                  <a:pt x="15101" y="4707"/>
                </a:lnTo>
                <a:lnTo>
                  <a:pt x="16877" y="4707"/>
                </a:lnTo>
                <a:lnTo>
                  <a:pt x="16877" y="8224"/>
                </a:lnTo>
                <a:close/>
              </a:path>
              <a:path fill="darkenLess" w="25050" h="21600">
                <a:moveTo>
                  <a:pt x="11602" y="14299"/>
                </a:moveTo>
                <a:lnTo>
                  <a:pt x="13448" y="14299"/>
                </a:lnTo>
                <a:lnTo>
                  <a:pt x="13448" y="17989"/>
                </a:lnTo>
                <a:lnTo>
                  <a:pt x="17834" y="17989"/>
                </a:lnTo>
                <a:lnTo>
                  <a:pt x="17834" y="10800"/>
                </a:lnTo>
                <a:lnTo>
                  <a:pt x="7216" y="10800"/>
                </a:lnTo>
                <a:lnTo>
                  <a:pt x="7216" y="17989"/>
                </a:lnTo>
                <a:lnTo>
                  <a:pt x="11602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8229600" y="4876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813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yber Eth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The Cyber Citizen Partne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partment of Justice categorizes computer crime in three way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mputer as a targ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ttacking the computers of others (spreading viruses is an example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mputer as a wea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ing a computer to commit "traditional crime" that we see in the physical world (such as fraud or illegal gambling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mputer as an accesso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ing a computer as a "fancy filing cabinet" to store illegal or stolen inform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The Ethics of Music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016600" y="2057400"/>
            <a:ext cx="3454200" cy="2612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324480" y="6248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nesty” by Billy Jo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orks Cite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thics World 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ethicsworld.org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ccessed 5/23/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 Glovin, Patricia Hurtado and Thom Weidlich Bernard Madoff Gets 150 Years in Jail for Epic Fraud 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www.bloomberg.com/apps/news?pid=20601103&amp;sid=aPDMGOxP0uJQ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ed 5/23/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handle workplace ethics situations. Yahoo Videos, Apr 21, 2009  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www.iquestions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ed 5/23/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e of Business Ethics. 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http://www.ibe.org.uk/codesofethics/examples.html Accessed 5/23/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Camer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Ho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ng Writer. “How to develop a personal code of ethics” 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http://www.ehow.com/how_5982751_develop-personal-code-ethics.html Accessed 5/23/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ber Citizen Partnership 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http://www.cybercitizenship.org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ed 5/23/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hics of Music Sharing </a:t>
            </a:r>
            <a:r>
              <a:rPr b="0" lang="en-US" sz="1200" spc="-1" strike="noStrike">
                <a:solidFill>
                  <a:srgbClr val="990033"/>
                </a:solidFill>
                <a:latin typeface="Arial"/>
              </a:rPr>
              <a:t>http://articles.marco.org/2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ed 5/23/10, Accessed 5/23/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VD “Business Ethics on the Job: and reproducible activities, Human Relations Media. Mount Kisco, NY. www.hrmvideo.com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BN 1-55548-164-7. LHS Media Center 3057000015752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271944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15:44:09Z</dcterms:created>
  <dc:creator>HP Authorized Customer</dc:creator>
  <dc:description/>
  <dc:language>en-US</dc:language>
  <cp:lastModifiedBy>CCPS</cp:lastModifiedBy>
  <dcterms:modified xsi:type="dcterms:W3CDTF">2011-01-07T21:06:58Z</dcterms:modified>
  <cp:revision>54</cp:revision>
  <dc:subject/>
  <dc:title>Slide 1</dc:title>
</cp:coreProperties>
</file>